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6ED-C314-462F-8F27-6DD6F710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003-D886-430C-B003-C73B86E8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0F1-6B64-4B00-B612-E6C5C251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14B-5F7C-4036-8AAF-6ED69919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EA9-196D-49FB-AF6C-3D9CC202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875-9B7A-4C63-A5E8-2FA7A34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B6B-C853-4980-AA7E-BFE1134D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B63-71AE-41A5-8B42-5BE88F60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8520"/>
            <a:ext cx="6172200" cy="76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7C3-B08F-49CD-98AE-A629E7E0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CF6-CC65-4641-863E-382E34E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3CC-0CA1-4CCF-9AC8-A96E7E6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AA3-8790-4F99-B725-58A81CA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8520"/>
            <a:ext cx="6172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65C5-2F86-4BA6-824B-F8509B638A4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376200"/>
            <a:ext cx="6308640" cy="9328320"/>
          </a:xfrm>
          <a:custGeom>
            <a:avLst/>
            <a:gdLst>
              <a:gd name="textAreaLeft" fmla="*/ 58680 w 6308640"/>
              <a:gd name="textAreaRight" fmla="*/ 6249960 w 6308640"/>
              <a:gd name="textAreaTop" fmla="*/ 58680 h 9328320"/>
              <a:gd name="textAreaBottom" fmla="*/ 9269640 h 9328320"/>
            </a:gdLst>
            <a:ahLst/>
            <a:rect l="textAreaLeft" t="textAreaTop" r="textAreaRight" b="textAreaBottom"/>
            <a:pathLst>
              <a:path w="21600" h="31938">
                <a:moveTo>
                  <a:pt x="690" y="0"/>
                </a:moveTo>
                <a:arcTo wR="690" hR="690" stAng="16200000" swAng="-5400000"/>
                <a:lnTo>
                  <a:pt x="0" y="31248"/>
                </a:lnTo>
                <a:arcTo wR="690" hR="690" stAng="10800000" swAng="-5400000"/>
                <a:lnTo>
                  <a:pt x="20910" y="31938"/>
                </a:lnTo>
                <a:arcTo wR="690" hR="690" stAng="5400000" swAng="-5400000"/>
                <a:lnTo>
                  <a:pt x="21600" y="690"/>
                </a:lnTo>
                <a:arcTo wR="690" hR="690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20640" y="1154160"/>
            <a:ext cx="6048360" cy="58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1.  </a:t>
            </a: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일반사항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적용범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시방서는 불포화 폴리에스테르 수지와 유리섬유를 주원료로 하여 제조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MC(SHEET MOLDING COMPOUND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료를 금형에 의해 유압 프레스로 가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형된 각 판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천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측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드레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탱크 본체를 구성하고 보강재를 사용하며 접합부는 실링재를 삽입하여 볼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너트로 현장에서 조립하는 물탱크에 대해 규정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공사의 범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      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.M.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탱크 본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S.M.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초 프레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강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다리 조립 및 배관용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ITTING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립까지  본 공사로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조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성방식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각 형상의  판넬 조립식으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보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ST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식을 적용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 및 보강재는 수압 등 기대되는 하중에 견딜 수 있는 충분한 강도를 가져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제품은 식수를 저장하는 용기로서 오염물질의 유입 및 발생이 없어야 하며 건설부 제정  수도시설의 위생관리 등에 관한 규칙 및 저수조 설치 지침에 적합하여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제품은 바닥에 침전물이 고이지 않는 구조의 저면 판넬과 내부 청소 시 세척물 등의 배출이 용이하도록 하부에 드레인을 설치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의 탱크를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 이상으로 구획할 경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칸막이 기능을 가진 전용 판넬을 사용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청소 시 소독제 및 오염물질이 이웃한 탱크로 유입되지 않는 밀폐구조 이어야 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제품은 내부에 빗물이 들어가지 않는 구조로 시건이 가능하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청소를 위한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람이 장비의 출입이 원활하도록 안 지름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950mm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인 맨홀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 이상 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800440" y="9363240"/>
            <a:ext cx="4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배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120" y="8458200"/>
            <a:ext cx="2086920" cy="1012320"/>
            <a:chOff x="762120" y="8458200"/>
            <a:chExt cx="2086920" cy="1012320"/>
          </a:xfrm>
        </p:grpSpPr>
        <p:grpSp>
          <p:nvGrpSpPr>
            <p:cNvPr id="45" name=""/>
            <p:cNvGrpSpPr/>
            <p:nvPr/>
          </p:nvGrpSpPr>
          <p:grpSpPr>
            <a:xfrm>
              <a:off x="762120" y="8674920"/>
              <a:ext cx="2008800" cy="793800"/>
              <a:chOff x="762120" y="8674920"/>
              <a:chExt cx="2008800" cy="7938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762120" y="8674920"/>
                <a:ext cx="2008800" cy="793800"/>
                <a:chOff x="762120" y="8674920"/>
                <a:chExt cx="2008800" cy="79380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762120" y="8674920"/>
                  <a:ext cx="1172520" cy="657720"/>
                </a:xfrm>
                <a:custGeom>
                  <a:avLst/>
                  <a:gdLst/>
                  <a:ahLst/>
                  <a:rect l="l" t="t" r="r" b="b"/>
                  <a:pathLst>
                    <a:path w="196" h="150">
                      <a:moveTo>
                        <a:pt x="6" y="0"/>
                      </a:moveTo>
                      <a:cubicBezTo>
                        <a:pt x="6" y="0"/>
                        <a:pt x="16" y="0"/>
                        <a:pt x="26" y="0"/>
                      </a:cubicBezTo>
                      <a:cubicBezTo>
                        <a:pt x="26" y="15"/>
                        <a:pt x="26" y="0"/>
                        <a:pt x="26" y="20"/>
                      </a:cubicBezTo>
                      <a:cubicBezTo>
                        <a:pt x="0" y="24"/>
                        <a:pt x="6" y="117"/>
                        <a:pt x="26" y="120"/>
                      </a:cubicBezTo>
                      <a:cubicBezTo>
                        <a:pt x="26" y="135"/>
                        <a:pt x="26" y="125"/>
                        <a:pt x="26" y="140"/>
                      </a:cubicBezTo>
                      <a:cubicBezTo>
                        <a:pt x="33" y="140"/>
                        <a:pt x="24" y="140"/>
                        <a:pt x="31" y="140"/>
                      </a:cubicBezTo>
                      <a:cubicBezTo>
                        <a:pt x="31" y="125"/>
                        <a:pt x="31" y="133"/>
                        <a:pt x="31" y="120"/>
                      </a:cubicBezTo>
                      <a:cubicBezTo>
                        <a:pt x="43" y="120"/>
                        <a:pt x="32" y="120"/>
                        <a:pt x="49" y="120"/>
                      </a:cubicBezTo>
                      <a:cubicBezTo>
                        <a:pt x="57" y="107"/>
                        <a:pt x="101" y="108"/>
                        <a:pt x="111" y="120"/>
                      </a:cubicBezTo>
                      <a:cubicBezTo>
                        <a:pt x="116" y="111"/>
                        <a:pt x="174" y="111"/>
                        <a:pt x="176" y="125"/>
                      </a:cubicBezTo>
                      <a:cubicBezTo>
                        <a:pt x="191" y="126"/>
                        <a:pt x="182" y="125"/>
                        <a:pt x="196" y="126"/>
                      </a:cubicBezTo>
                      <a:cubicBezTo>
                        <a:pt x="196" y="146"/>
                        <a:pt x="196" y="128"/>
                        <a:pt x="196" y="15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1964520" y="9227520"/>
                  <a:ext cx="567720" cy="236520"/>
                </a:xfrm>
                <a:custGeom>
                  <a:avLst/>
                  <a:gdLst/>
                  <a:ahLst/>
                  <a:rect l="l" t="t" r="r" b="b"/>
                  <a:pathLst>
                    <a:path w="95" h="54">
                      <a:moveTo>
                        <a:pt x="0" y="24"/>
                      </a:moveTo>
                      <a:cubicBezTo>
                        <a:pt x="0" y="24"/>
                        <a:pt x="0" y="12"/>
                        <a:pt x="0" y="0"/>
                      </a:cubicBezTo>
                      <a:cubicBezTo>
                        <a:pt x="8" y="0"/>
                        <a:pt x="3" y="0"/>
                        <a:pt x="10" y="0"/>
                      </a:cubicBezTo>
                      <a:cubicBezTo>
                        <a:pt x="17" y="9"/>
                        <a:pt x="19" y="14"/>
                        <a:pt x="45" y="14"/>
                      </a:cubicBezTo>
                      <a:cubicBezTo>
                        <a:pt x="45" y="38"/>
                        <a:pt x="45" y="35"/>
                        <a:pt x="45" y="54"/>
                      </a:cubicBezTo>
                      <a:cubicBezTo>
                        <a:pt x="54" y="54"/>
                        <a:pt x="85" y="54"/>
                        <a:pt x="95" y="54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292480" y="9245160"/>
                  <a:ext cx="310320" cy="223560"/>
                </a:xfrm>
                <a:custGeom>
                  <a:avLst/>
                  <a:gdLst/>
                  <a:ahLst/>
                  <a:rect l="l" t="t" r="r" b="b"/>
                  <a:pathLst>
                    <a:path w="52" h="51">
                      <a:moveTo>
                        <a:pt x="40" y="51"/>
                      </a:moveTo>
                      <a:cubicBezTo>
                        <a:pt x="40" y="49"/>
                        <a:pt x="40" y="46"/>
                        <a:pt x="40" y="40"/>
                      </a:cubicBezTo>
                      <a:cubicBezTo>
                        <a:pt x="8" y="40"/>
                        <a:pt x="21" y="40"/>
                        <a:pt x="0" y="40"/>
                      </a:cubicBezTo>
                      <a:cubicBezTo>
                        <a:pt x="0" y="8"/>
                        <a:pt x="0" y="40"/>
                        <a:pt x="0" y="10"/>
                      </a:cubicBezTo>
                      <a:cubicBezTo>
                        <a:pt x="12" y="10"/>
                        <a:pt x="26" y="10"/>
                        <a:pt x="35" y="0"/>
                      </a:cubicBezTo>
                      <a:cubicBezTo>
                        <a:pt x="52" y="0"/>
                        <a:pt x="40" y="0"/>
                        <a:pt x="50" y="0"/>
                      </a:cubicBezTo>
                      <a:cubicBezTo>
                        <a:pt x="50" y="22"/>
                        <a:pt x="50" y="16"/>
                        <a:pt x="50" y="2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621880" y="8688600"/>
                  <a:ext cx="149040" cy="644040"/>
                </a:xfrm>
                <a:custGeom>
                  <a:avLst/>
                  <a:gdLst/>
                  <a:ahLst/>
                  <a:rect l="l" t="t" r="r" b="b"/>
                  <a:pathLst>
                    <a:path w="25" h="147">
                      <a:moveTo>
                        <a:pt x="0" y="147"/>
                      </a:moveTo>
                      <a:cubicBezTo>
                        <a:pt x="0" y="144"/>
                        <a:pt x="0" y="147"/>
                        <a:pt x="0" y="127"/>
                      </a:cubicBezTo>
                      <a:cubicBezTo>
                        <a:pt x="17" y="126"/>
                        <a:pt x="21" y="31"/>
                        <a:pt x="0" y="27"/>
                      </a:cubicBezTo>
                      <a:cubicBezTo>
                        <a:pt x="0" y="0"/>
                        <a:pt x="0" y="31"/>
                        <a:pt x="0" y="7"/>
                      </a:cubicBezTo>
                      <a:cubicBezTo>
                        <a:pt x="16" y="7"/>
                        <a:pt x="20" y="7"/>
                        <a:pt x="25" y="7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426320" y="9201600"/>
                  <a:ext cx="0" cy="87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828360" y="9030960"/>
                <a:ext cx="1871640" cy="258480"/>
              </a:xfrm>
              <a:custGeom>
                <a:avLst/>
                <a:gdLst/>
                <a:ahLst/>
                <a:rect l="l" t="t" r="r" b="b"/>
                <a:pathLst>
                  <a:path w="313" h="59">
                    <a:moveTo>
                      <a:pt x="0" y="0"/>
                    </a:moveTo>
                    <a:cubicBezTo>
                      <a:pt x="0" y="2"/>
                      <a:pt x="4" y="36"/>
                      <a:pt x="15" y="38"/>
                    </a:cubicBezTo>
                    <a:cubicBezTo>
                      <a:pt x="32" y="38"/>
                      <a:pt x="23" y="38"/>
                      <a:pt x="37" y="38"/>
                    </a:cubicBezTo>
                    <a:cubicBezTo>
                      <a:pt x="45" y="26"/>
                      <a:pt x="85" y="25"/>
                      <a:pt x="100" y="37"/>
                    </a:cubicBezTo>
                    <a:cubicBezTo>
                      <a:pt x="107" y="29"/>
                      <a:pt x="163" y="29"/>
                      <a:pt x="166" y="43"/>
                    </a:cubicBezTo>
                    <a:cubicBezTo>
                      <a:pt x="197" y="44"/>
                      <a:pt x="179" y="44"/>
                      <a:pt x="201" y="44"/>
                    </a:cubicBezTo>
                    <a:cubicBezTo>
                      <a:pt x="206" y="55"/>
                      <a:pt x="216" y="58"/>
                      <a:pt x="240" y="58"/>
                    </a:cubicBezTo>
                    <a:cubicBezTo>
                      <a:pt x="263" y="59"/>
                      <a:pt x="273" y="54"/>
                      <a:pt x="280" y="47"/>
                    </a:cubicBezTo>
                    <a:cubicBezTo>
                      <a:pt x="297" y="47"/>
                      <a:pt x="297" y="47"/>
                      <a:pt x="300" y="47"/>
                    </a:cubicBezTo>
                    <a:cubicBezTo>
                      <a:pt x="307" y="47"/>
                      <a:pt x="312" y="25"/>
                      <a:pt x="313" y="0"/>
                    </a:cubicBezTo>
                    <a:cubicBezTo>
                      <a:pt x="313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c0c0c0">
                  <a:alpha val="4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6120" y="9016920"/>
                <a:ext cx="189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1208880" y="8674920"/>
              <a:ext cx="74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저면 판넬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29080" y="8458200"/>
              <a:ext cx="82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드레임 판넬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0240" y="9470520"/>
              <a:ext cx="2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283760" y="8891640"/>
              <a:ext cx="73800" cy="21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64240" y="8674920"/>
              <a:ext cx="336600" cy="57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429000" y="411120"/>
            <a:ext cx="3332520" cy="9261000"/>
            <a:chOff x="3429000" y="411120"/>
            <a:chExt cx="3332520" cy="9261000"/>
          </a:xfrm>
        </p:grpSpPr>
        <p:sp>
          <p:nvSpPr>
            <p:cNvPr id="60" name=""/>
            <p:cNvSpPr/>
            <p:nvPr/>
          </p:nvSpPr>
          <p:spPr>
            <a:xfrm>
              <a:off x="3429000" y="411120"/>
              <a:ext cx="1127520" cy="9261000"/>
            </a:xfrm>
            <a:prstGeom prst="rect">
              <a:avLst/>
            </a:prstGeom>
            <a:blipFill rotWithShape="0">
              <a:blip r:embed="rId1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59280" y="411120"/>
              <a:ext cx="1002240" cy="926100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0"/>
                  </a:moveTo>
                  <a:lnTo>
                    <a:pt x="0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19" y="22"/>
                  </a:lnTo>
                  <a:lnTo>
                    <a:pt x="19" y="4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56600" y="748800"/>
              <a:ext cx="1002240" cy="865260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14" y="0"/>
                  </a:moveTo>
                  <a:lnTo>
                    <a:pt x="0" y="22"/>
                  </a:lnTo>
                  <a:lnTo>
                    <a:pt x="14" y="43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3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9000" y="411120"/>
              <a:ext cx="3107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9672120"/>
              <a:ext cx="3107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76280" y="376200"/>
            <a:ext cx="6308640" cy="9328320"/>
          </a:xfrm>
          <a:custGeom>
            <a:avLst/>
            <a:gdLst>
              <a:gd name="textAreaLeft" fmla="*/ 58680 w 6308640"/>
              <a:gd name="textAreaRight" fmla="*/ 6249960 w 6308640"/>
              <a:gd name="textAreaTop" fmla="*/ 58680 h 9328320"/>
              <a:gd name="textAreaBottom" fmla="*/ 9269640 h 9328320"/>
            </a:gdLst>
            <a:ahLst/>
            <a:rect l="textAreaLeft" t="textAreaTop" r="textAreaRight" b="textAreaBottom"/>
            <a:pathLst>
              <a:path w="21600" h="31938">
                <a:moveTo>
                  <a:pt x="690" y="0"/>
                </a:moveTo>
                <a:arcTo wR="690" hR="690" stAng="16200000" swAng="-5400000"/>
                <a:lnTo>
                  <a:pt x="0" y="31248"/>
                </a:lnTo>
                <a:arcTo wR="690" hR="690" stAng="10800000" swAng="-5400000"/>
                <a:lnTo>
                  <a:pt x="20910" y="31938"/>
                </a:lnTo>
                <a:arcTo wR="690" hR="690" stAng="5400000" swAng="-5400000"/>
                <a:lnTo>
                  <a:pt x="21600" y="690"/>
                </a:lnTo>
                <a:arcTo wR="690" hR="690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20640" y="1065240"/>
            <a:ext cx="6048360" cy="76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2.   </a:t>
            </a: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제품 구성 및 제작 사양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SMC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판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 재질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포화 폴리에스테르 수지에 충진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촉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형제등을 혼합한 복합제에 유리섬 유를 함침 보강한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M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재를 프레스로 압축 성형한 제품으로 음용수 저장 시 유해하지 않는 재질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의 성능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의 성능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K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규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KSF 4811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만족하여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의 종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판구조와 보온구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지로 구분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옥내용 탱크는 기본적으로 단판구조가 적용되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옥외용 탱크는 보온 구조 사용을 원칙으로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 규격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변의 길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0.5X0.5, 0.5X1, 1X1, 1×1.5, 1X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기준으로 탱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Z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따라 호환성 있게 적용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52640" y="3846600"/>
          <a:ext cx="5435640" cy="3770280"/>
        </p:xfrm>
        <a:graphic>
          <a:graphicData uri="http://schemas.openxmlformats.org/drawingml/2006/table">
            <a:tbl>
              <a:tblPr/>
              <a:tblGrid>
                <a:gridCol w="1114200"/>
                <a:gridCol w="1384560"/>
                <a:gridCol w="1384200"/>
                <a:gridCol w="1552680"/>
              </a:tblGrid>
              <a:tr h="28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항   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    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 험  방 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성시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장 강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kg/mm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KSM-3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판별도제작시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굴곡 강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kg/mm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굴곡탄성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0kg/mm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리 함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5%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바콜 경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흡수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.1 %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해시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KMnO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pp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KSF-4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KSF-3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해성 시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증발잔유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pp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납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b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유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.15pp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.005ppm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429000" y="411120"/>
            <a:ext cx="3332520" cy="9261000"/>
            <a:chOff x="3429000" y="411120"/>
            <a:chExt cx="3332520" cy="9261000"/>
          </a:xfrm>
        </p:grpSpPr>
        <p:sp>
          <p:nvSpPr>
            <p:cNvPr id="69" name=""/>
            <p:cNvSpPr/>
            <p:nvPr/>
          </p:nvSpPr>
          <p:spPr>
            <a:xfrm>
              <a:off x="3429000" y="411120"/>
              <a:ext cx="1127520" cy="9261000"/>
            </a:xfrm>
            <a:prstGeom prst="rect">
              <a:avLst/>
            </a:prstGeom>
            <a:blipFill rotWithShape="0">
              <a:blip r:embed="rId1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59280" y="411120"/>
              <a:ext cx="1002240" cy="926100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0"/>
                  </a:moveTo>
                  <a:lnTo>
                    <a:pt x="0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19" y="22"/>
                  </a:lnTo>
                  <a:lnTo>
                    <a:pt x="19" y="4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56600" y="748800"/>
              <a:ext cx="1002240" cy="865260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14" y="0"/>
                  </a:moveTo>
                  <a:lnTo>
                    <a:pt x="0" y="22"/>
                  </a:lnTo>
                  <a:lnTo>
                    <a:pt x="14" y="43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3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11120"/>
              <a:ext cx="3107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9000" y="9672120"/>
              <a:ext cx="3107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76280" y="376200"/>
            <a:ext cx="6308640" cy="9328320"/>
          </a:xfrm>
          <a:custGeom>
            <a:avLst/>
            <a:gdLst>
              <a:gd name="textAreaLeft" fmla="*/ 58680 w 6308640"/>
              <a:gd name="textAreaRight" fmla="*/ 6249960 w 6308640"/>
              <a:gd name="textAreaTop" fmla="*/ 58680 h 9328320"/>
              <a:gd name="textAreaBottom" fmla="*/ 9269640 h 9328320"/>
            </a:gdLst>
            <a:ahLst/>
            <a:rect l="textAreaLeft" t="textAreaTop" r="textAreaRight" b="textAreaBottom"/>
            <a:pathLst>
              <a:path w="21600" h="31938">
                <a:moveTo>
                  <a:pt x="690" y="0"/>
                </a:moveTo>
                <a:arcTo wR="690" hR="690" stAng="16200000" swAng="-5400000"/>
                <a:lnTo>
                  <a:pt x="0" y="31248"/>
                </a:lnTo>
                <a:arcTo wR="690" hR="690" stAng="10800000" swAng="-5400000"/>
                <a:lnTo>
                  <a:pt x="20910" y="31938"/>
                </a:lnTo>
                <a:arcTo wR="690" hR="690" stAng="5400000" swAng="-5400000"/>
                <a:lnTo>
                  <a:pt x="21600" y="690"/>
                </a:lnTo>
                <a:arcTo wR="690" hR="690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620640" y="1211400"/>
            <a:ext cx="6048360" cy="76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 두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탱크 높이 및 적용 부위에 따라 적용하는 하중이 다르므로 위치별 판넬 두께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RAD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달리 하여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 두께 적용 표준 별첨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#1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참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온 판넬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열을 요구하는 보온판넬의 적층구조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M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폴리우레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진공성형품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COVER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이루어지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합성수지 발포층의 두께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0mm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 수밀구조로 마무리되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 판넬 조립시에지장이 있는 부위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0mm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하의 두께도 가능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                            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                                                                                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                                                                                 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                                                                           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      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맨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건 장치가 부착된 것으로 내부출입이 용이하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빗물유입이 안 되는 구조일 것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•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맨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S.M,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재질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경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95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㎜ 이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•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힌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용융 아연 도금 또는 동등 이상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초 프레임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FRAME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 재료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철재 형강에 용융 아연도금 처리된 제품을 사용하고 탱크 규격별 사용 재료 규격은 아래와 같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 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PR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페인트 도장은 내구성 결여로 적용 불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557360" y="3798720"/>
            <a:ext cx="3060720" cy="1420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08360" y="398772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MC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판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4754520" y="423216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폴리우레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4717080" y="4421160"/>
            <a:ext cx="102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진공성형폼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OV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844640" y="49258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O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17720" y="7832880"/>
          <a:ext cx="5435640" cy="1512720"/>
        </p:xfrm>
        <a:graphic>
          <a:graphicData uri="http://schemas.openxmlformats.org/drawingml/2006/table">
            <a:tbl>
              <a:tblPr/>
              <a:tblGrid>
                <a:gridCol w="1358640"/>
                <a:gridCol w="1359000"/>
                <a:gridCol w="1359000"/>
                <a:gridCol w="1359000"/>
              </a:tblGrid>
              <a:tr h="360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탱크규격                                재료규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    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     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탱크 높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H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TON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앵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×75×6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챤넬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×40×5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TON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앵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×75×6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챤넬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×40×5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탱크 높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H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TON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챤넬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5×65×6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챤넬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×40×5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TON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챤넬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5×65×6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챤넬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×40×5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76280" y="376200"/>
            <a:ext cx="6308640" cy="9328320"/>
          </a:xfrm>
          <a:custGeom>
            <a:avLst/>
            <a:gdLst>
              <a:gd name="textAreaLeft" fmla="*/ 58680 w 6308640"/>
              <a:gd name="textAreaRight" fmla="*/ 6249960 w 6308640"/>
              <a:gd name="textAreaTop" fmla="*/ 58680 h 9328320"/>
              <a:gd name="textAreaBottom" fmla="*/ 9269640 h 9328320"/>
            </a:gdLst>
            <a:ahLst/>
            <a:rect l="textAreaLeft" t="textAreaTop" r="textAreaRight" b="textAreaBottom"/>
            <a:pathLst>
              <a:path w="21600" h="31938">
                <a:moveTo>
                  <a:pt x="690" y="0"/>
                </a:moveTo>
                <a:arcTo wR="690" hR="690" stAng="16200000" swAng="-5400000"/>
                <a:lnTo>
                  <a:pt x="0" y="31248"/>
                </a:lnTo>
                <a:arcTo wR="690" hR="690" stAng="10800000" swAng="-5400000"/>
                <a:lnTo>
                  <a:pt x="20910" y="31938"/>
                </a:lnTo>
                <a:arcTo wR="690" hR="690" stAng="5400000" swAng="-5400000"/>
                <a:lnTo>
                  <a:pt x="21600" y="690"/>
                </a:lnTo>
                <a:arcTo wR="690" hR="690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20640" y="1211400"/>
            <a:ext cx="6048360" cy="79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성 방식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BOL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립식 구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장 용접식은 절단면 및 연결부 녹발생으로 내구성 저하와 하자 위험성 내재로 적용불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 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＊ 고정위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탱크 외곽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  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＊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BOL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규격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M1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내부 보강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재료 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T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성 방법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측면의 변형을 최소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탱크 높이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%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하 변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탱크의 절대 안전 및 수명향상을 위해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U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봉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T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조로 구성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                         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t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립구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65040" y="2792520"/>
            <a:ext cx="3646440" cy="1580760"/>
            <a:chOff x="1265040" y="2792520"/>
            <a:chExt cx="3646440" cy="1580760"/>
          </a:xfrm>
        </p:grpSpPr>
        <p:grpSp>
          <p:nvGrpSpPr>
            <p:cNvPr id="85" name=""/>
            <p:cNvGrpSpPr/>
            <p:nvPr/>
          </p:nvGrpSpPr>
          <p:grpSpPr>
            <a:xfrm>
              <a:off x="2276640" y="2925720"/>
              <a:ext cx="2229480" cy="1447560"/>
              <a:chOff x="2276640" y="2925720"/>
              <a:chExt cx="2229480" cy="1447560"/>
            </a:xfrm>
          </p:grpSpPr>
          <p:sp>
            <p:nvSpPr>
              <p:cNvPr id="86" name=""/>
              <p:cNvSpPr/>
              <p:nvPr/>
            </p:nvSpPr>
            <p:spPr>
              <a:xfrm>
                <a:off x="2914560" y="3546360"/>
                <a:ext cx="635400" cy="414360"/>
              </a:xfrm>
              <a:custGeom>
                <a:avLst/>
                <a:gdLst/>
                <a:ahLst/>
                <a:rect l="l" t="t" r="r" b="b"/>
                <a:pathLst>
                  <a:path w="60" h="50">
                    <a:moveTo>
                      <a:pt x="0" y="0"/>
                    </a:moveTo>
                    <a:lnTo>
                      <a:pt x="60" y="0"/>
                    </a:lnTo>
                    <a:lnTo>
                      <a:pt x="60" y="50"/>
                    </a:lnTo>
                    <a:lnTo>
                      <a:pt x="0" y="50"/>
                    </a:lnTo>
                    <a:lnTo>
                      <a:pt x="10" y="40"/>
                    </a:lnTo>
                    <a:lnTo>
                      <a:pt x="50" y="40"/>
                    </a:lnTo>
                    <a:lnTo>
                      <a:pt x="50" y="10"/>
                    </a:lnTo>
                    <a:lnTo>
                      <a:pt x="1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26600" y="3844440"/>
                <a:ext cx="105840" cy="2473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3" y="30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7" y="30"/>
                    </a:lnTo>
                    <a:lnTo>
                      <a:pt x="3" y="3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0800000">
                <a:off x="3126600" y="3414600"/>
                <a:ext cx="105840" cy="2473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3" y="30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7" y="30"/>
                    </a:lnTo>
                    <a:lnTo>
                      <a:pt x="3" y="3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3414960" y="3263040"/>
                <a:ext cx="82440" cy="3175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3" y="30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7" y="30"/>
                    </a:lnTo>
                    <a:lnTo>
                      <a:pt x="3" y="3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808720" y="2966760"/>
                <a:ext cx="635400" cy="5792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24" y="0"/>
                    </a:moveTo>
                    <a:lnTo>
                      <a:pt x="29" y="10"/>
                    </a:lnTo>
                    <a:lnTo>
                      <a:pt x="40" y="25"/>
                    </a:lnTo>
                    <a:lnTo>
                      <a:pt x="60" y="30"/>
                    </a:lnTo>
                    <a:lnTo>
                      <a:pt x="60" y="7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50" y="60"/>
                    </a:lnTo>
                    <a:lnTo>
                      <a:pt x="50" y="37"/>
                    </a:lnTo>
                    <a:lnTo>
                      <a:pt x="35" y="33"/>
                    </a:lnTo>
                    <a:lnTo>
                      <a:pt x="19" y="11"/>
                    </a:lnTo>
                    <a:lnTo>
                      <a:pt x="1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444480" y="2925720"/>
                <a:ext cx="1061640" cy="620640"/>
              </a:xfrm>
              <a:custGeom>
                <a:avLst/>
                <a:gdLst/>
                <a:ahLst/>
                <a:rect l="l" t="t" r="r" b="b"/>
                <a:pathLst>
                  <a:path w="100" h="75">
                    <a:moveTo>
                      <a:pt x="100" y="0"/>
                    </a:moveTo>
                    <a:lnTo>
                      <a:pt x="70" y="10"/>
                    </a:lnTo>
                    <a:lnTo>
                      <a:pt x="60" y="20"/>
                    </a:lnTo>
                    <a:lnTo>
                      <a:pt x="50" y="35"/>
                    </a:lnTo>
                    <a:lnTo>
                      <a:pt x="0" y="35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45"/>
                    </a:lnTo>
                    <a:lnTo>
                      <a:pt x="55" y="45"/>
                    </a:lnTo>
                    <a:lnTo>
                      <a:pt x="67" y="26"/>
                    </a:lnTo>
                    <a:lnTo>
                      <a:pt x="74" y="18"/>
                    </a:lnTo>
                    <a:lnTo>
                      <a:pt x="100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76640" y="3960720"/>
                <a:ext cx="2017800" cy="412560"/>
              </a:xfrm>
              <a:custGeom>
                <a:avLst/>
                <a:gdLst/>
                <a:ahLst/>
                <a:rect l="l" t="t" r="r" b="b"/>
                <a:pathLst>
                  <a:path w="190" h="50">
                    <a:moveTo>
                      <a:pt x="0" y="50"/>
                    </a:moveTo>
                    <a:lnTo>
                      <a:pt x="30" y="50"/>
                    </a:lnTo>
                    <a:lnTo>
                      <a:pt x="30" y="0"/>
                    </a:lnTo>
                    <a:lnTo>
                      <a:pt x="150" y="0"/>
                    </a:lnTo>
                    <a:lnTo>
                      <a:pt x="150" y="50"/>
                    </a:lnTo>
                    <a:lnTo>
                      <a:pt x="190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733840" y="4026600"/>
                <a:ext cx="43200" cy="3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66080" y="4067640"/>
                <a:ext cx="52920" cy="3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79520" y="4150080"/>
                <a:ext cx="43200" cy="3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64880" y="4016880"/>
                <a:ext cx="62280" cy="50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18440" y="4157640"/>
                <a:ext cx="52920" cy="579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1"/>
                    </a:moveTo>
                    <a:cubicBezTo>
                      <a:pt x="1" y="5"/>
                      <a:pt x="1" y="7"/>
                      <a:pt x="5" y="5"/>
                    </a:cubicBezTo>
                    <a:cubicBezTo>
                      <a:pt x="3" y="0"/>
                      <a:pt x="4" y="1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276000" y="4026600"/>
                <a:ext cx="62280" cy="486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3" y="6"/>
                    </a:lnTo>
                    <a:lnTo>
                      <a:pt x="6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20760" y="4208400"/>
                <a:ext cx="62280" cy="486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3" y="6"/>
                    </a:lnTo>
                    <a:lnTo>
                      <a:pt x="6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42360" y="4033800"/>
                <a:ext cx="62280" cy="33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1" y="4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21320" y="4215960"/>
                <a:ext cx="43200" cy="3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12240" y="4249440"/>
                <a:ext cx="43200" cy="3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84160" y="4174560"/>
                <a:ext cx="40680" cy="3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60240" y="414288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3" y="6"/>
                    </a:lnTo>
                    <a:lnTo>
                      <a:pt x="6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14560" y="4026600"/>
                <a:ext cx="40680" cy="334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3" y="6"/>
                    </a:lnTo>
                    <a:lnTo>
                      <a:pt x="6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07320" y="4232880"/>
                <a:ext cx="62280" cy="33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1" y="4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37080" y="4033800"/>
                <a:ext cx="40680" cy="334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3" y="6"/>
                    </a:lnTo>
                    <a:lnTo>
                      <a:pt x="6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349880" y="36558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굴림"/>
                </a:rPr>
                <a:t>기초프레임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61200" y="283536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저판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6560" y="3079800"/>
              <a:ext cx="123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굴림"/>
                </a:rPr>
                <a:t>본체 고정 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BOLT(M1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65040" y="3556080"/>
              <a:ext cx="129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앙카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BOLT(M12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이상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44840" y="279252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굴림"/>
                </a:rPr>
                <a:t>측판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637000" y="32241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613320" y="380052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565360" y="3728880"/>
            <a:ext cx="503280" cy="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52640" y="5318280"/>
          <a:ext cx="5400720" cy="1003320"/>
        </p:xfrm>
        <a:graphic>
          <a:graphicData uri="http://schemas.openxmlformats.org/drawingml/2006/table">
            <a:tbl>
              <a:tblPr/>
              <a:tblGrid>
                <a:gridCol w="1369800"/>
                <a:gridCol w="1611360"/>
                <a:gridCol w="2419560"/>
              </a:tblGrid>
              <a:tr h="28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위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  품 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질 및 규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  수  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S304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봉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Φ 12.6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또는 동등이상의 재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천정지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S304, PVC PI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0080" y="7539120"/>
            <a:ext cx="2392560" cy="15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49720" y="7547040"/>
            <a:ext cx="148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S304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환봉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Φ 12.6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또는 동등이상의 재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357720" y="8481960"/>
            <a:ext cx="79200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292640" y="86979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US 304 (5T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429000" y="411120"/>
            <a:ext cx="3332520" cy="9261000"/>
            <a:chOff x="3429000" y="411120"/>
            <a:chExt cx="3332520" cy="9261000"/>
          </a:xfrm>
        </p:grpSpPr>
        <p:sp>
          <p:nvSpPr>
            <p:cNvPr id="122" name=""/>
            <p:cNvSpPr/>
            <p:nvPr/>
          </p:nvSpPr>
          <p:spPr>
            <a:xfrm>
              <a:off x="3429000" y="411120"/>
              <a:ext cx="1127520" cy="9261000"/>
            </a:xfrm>
            <a:prstGeom prst="rect">
              <a:avLst/>
            </a:prstGeom>
            <a:blipFill rotWithShape="0">
              <a:blip r:embed="rId1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59280" y="411120"/>
              <a:ext cx="1002240" cy="926100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0"/>
                  </a:moveTo>
                  <a:lnTo>
                    <a:pt x="0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19" y="22"/>
                  </a:lnTo>
                  <a:lnTo>
                    <a:pt x="19" y="4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6600" y="748800"/>
              <a:ext cx="1002240" cy="865260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14" y="0"/>
                  </a:moveTo>
                  <a:lnTo>
                    <a:pt x="0" y="22"/>
                  </a:lnTo>
                  <a:lnTo>
                    <a:pt x="14" y="43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3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9000" y="411120"/>
              <a:ext cx="3107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9000" y="9672120"/>
              <a:ext cx="3107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76280" y="376200"/>
            <a:ext cx="6308640" cy="9328320"/>
          </a:xfrm>
          <a:custGeom>
            <a:avLst/>
            <a:gdLst>
              <a:gd name="textAreaLeft" fmla="*/ 58680 w 6308640"/>
              <a:gd name="textAreaRight" fmla="*/ 6249960 w 6308640"/>
              <a:gd name="textAreaTop" fmla="*/ 58680 h 9328320"/>
              <a:gd name="textAreaBottom" fmla="*/ 9269640 h 9328320"/>
            </a:gdLst>
            <a:ahLst/>
            <a:rect l="textAreaLeft" t="textAreaTop" r="textAreaRight" b="textAreaBottom"/>
            <a:pathLst>
              <a:path w="21600" h="31938">
                <a:moveTo>
                  <a:pt x="690" y="0"/>
                </a:moveTo>
                <a:arcTo wR="690" hR="690" stAng="16200000" swAng="-5400000"/>
                <a:lnTo>
                  <a:pt x="0" y="31248"/>
                </a:lnTo>
                <a:arcTo wR="690" hR="690" stAng="10800000" swAng="-5400000"/>
                <a:lnTo>
                  <a:pt x="20910" y="31938"/>
                </a:lnTo>
                <a:arcTo wR="690" hR="690" stAng="5400000" swAng="-5400000"/>
                <a:lnTo>
                  <a:pt x="21600" y="690"/>
                </a:lnTo>
                <a:arcTo wR="690" hR="690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20640" y="1211400"/>
            <a:ext cx="6048360" cy="74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마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외부 보강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주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표면 처리는 은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SPRAY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또는 페인트 도장은 내구성 결여로 적용 불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바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실링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생상 무해한 재질로 온도 변화에 이상이 없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과 동일한 수명을 갖는 내구성과 복원력이 우수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V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통의 재질로써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AP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상의  취급이 용이한 제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곰팡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끼가 끼지 않는 무독성 물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BOL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및 내부 조립부에 실링재로 사용되는 고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ACKING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수도용 고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KSM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613 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종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규정에 만족하는 재질을 사용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볼트 및 너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볼트의 치수는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K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규격에 준하고 직경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㎜ 이상이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용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담수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: SUS 304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용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층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크로 도금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아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다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충분한 내하중과 견고성이 있어야 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 사다리는 위생상 무해한 제품이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용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SUS 304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경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Φ 25×1.2t PIPE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내식성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LASTIC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용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용융 아연 도금 제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경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Φ 25×1.8t PIPE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환기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V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재질로 곤충의 침입 및 이물질의 혼입을 차단 할 수 있는 방충망 삽입구조이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차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피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Φ5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켓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YP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으로 황동 주물 제품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Φ6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플렌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YPE (PV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7000" y="1712880"/>
          <a:ext cx="5256360" cy="1263600"/>
        </p:xfrm>
        <a:graphic>
          <a:graphicData uri="http://schemas.openxmlformats.org/drawingml/2006/table">
            <a:tbl>
              <a:tblPr/>
              <a:tblGrid>
                <a:gridCol w="949320"/>
                <a:gridCol w="1023840"/>
                <a:gridCol w="1532160"/>
                <a:gridCol w="175104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 품 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용 위 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     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 료 규 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플랜지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측판 접합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S41 +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용아연도금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앵글 및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E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앵글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65×30×3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E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50×3.5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코너프레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측판 코너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S41 +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용아연도금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앵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×75×3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76280" y="376200"/>
            <a:ext cx="6308640" cy="9328320"/>
          </a:xfrm>
          <a:custGeom>
            <a:avLst/>
            <a:gdLst>
              <a:gd name="textAreaLeft" fmla="*/ 58680 w 6308640"/>
              <a:gd name="textAreaRight" fmla="*/ 6249960 w 6308640"/>
              <a:gd name="textAreaTop" fmla="*/ 58680 h 9328320"/>
              <a:gd name="textAreaBottom" fmla="*/ 9269640 h 9328320"/>
            </a:gdLst>
            <a:ahLst/>
            <a:rect l="textAreaLeft" t="textAreaTop" r="textAreaRight" b="textAreaBottom"/>
            <a:pathLst>
              <a:path w="21600" h="31938">
                <a:moveTo>
                  <a:pt x="690" y="0"/>
                </a:moveTo>
                <a:arcTo wR="690" hR="690" stAng="16200000" swAng="-5400000"/>
                <a:lnTo>
                  <a:pt x="0" y="31248"/>
                </a:lnTo>
                <a:arcTo wR="690" hR="690" stAng="10800000" swAng="-5400000"/>
                <a:lnTo>
                  <a:pt x="20910" y="31938"/>
                </a:lnTo>
                <a:arcTo wR="690" hR="690" stAng="5400000" swAng="-5400000"/>
                <a:lnTo>
                  <a:pt x="21600" y="690"/>
                </a:lnTo>
                <a:arcTo wR="690" hR="690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620640" y="1211400"/>
            <a:ext cx="6048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카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청정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TANK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공공정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청정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ANK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치 공사 범위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SM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초프레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 외부 보강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 외부 사다리 조립 및 배관용 피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FITTING)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립 공사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배관 및 기초콘크리트 공사제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청정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ANK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치공정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초공사 확인 → 기초 프레임 조립 → 실링테이프 부착 → 저면 판넬 조립 → 측면판넬 조립 → 내부보강제 가조립 → 칸막이판넬 조립 → 천정판넬 조립 → 측면판넬 완전조립 → 전볼트 완전조립 → 내외부 장착물 조립 → 조립완료 점검 → 피팅 조립 →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ANK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치완료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타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행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하자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자 보증기간은 설치 완료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월로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자 발생시 수요기간의 지시에 따라 즉시 복구 조치 하여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       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※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별 첨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#1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판넬 두께 적용 표준                                           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두께 단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mn 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46080" y="5024520"/>
          <a:ext cx="5435640" cy="2447640"/>
        </p:xfrm>
        <a:graphic>
          <a:graphicData uri="http://schemas.openxmlformats.org/drawingml/2006/table">
            <a:tbl>
              <a:tblPr/>
              <a:tblGrid>
                <a:gridCol w="827280"/>
                <a:gridCol w="503280"/>
                <a:gridCol w="576000"/>
                <a:gridCol w="505080"/>
                <a:gridCol w="576000"/>
                <a:gridCol w="574920"/>
                <a:gridCol w="576000"/>
                <a:gridCol w="505080"/>
                <a:gridCol w="792000"/>
              </a:tblGrid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 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5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.5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플랜자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천   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측   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측중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측중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측   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저   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드레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052640" y="7616880"/>
            <a:ext cx="24476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판넬의 두께는 평면부 두께 기준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두께 허용 공차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 ±0.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49360" y="8193240"/>
            <a:ext cx="2952720" cy="1153440"/>
            <a:chOff x="2349360" y="8193240"/>
            <a:chExt cx="2952720" cy="1153440"/>
          </a:xfrm>
        </p:grpSpPr>
        <p:sp>
          <p:nvSpPr>
            <p:cNvPr id="135" name=""/>
            <p:cNvSpPr/>
            <p:nvPr/>
          </p:nvSpPr>
          <p:spPr>
            <a:xfrm>
              <a:off x="2349360" y="8626680"/>
              <a:ext cx="2686320" cy="35928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0" y="0"/>
                  </a:moveTo>
                  <a:cubicBezTo>
                    <a:pt x="0" y="23"/>
                    <a:pt x="0" y="24"/>
                    <a:pt x="0" y="40"/>
                  </a:cubicBezTo>
                  <a:cubicBezTo>
                    <a:pt x="37" y="40"/>
                    <a:pt x="3" y="40"/>
                    <a:pt x="40" y="40"/>
                  </a:cubicBezTo>
                  <a:cubicBezTo>
                    <a:pt x="80" y="20"/>
                    <a:pt x="140" y="20"/>
                    <a:pt x="180" y="40"/>
                  </a:cubicBezTo>
                  <a:cubicBezTo>
                    <a:pt x="200" y="40"/>
                    <a:pt x="187" y="40"/>
                    <a:pt x="220" y="40"/>
                  </a:cubicBezTo>
                  <a:cubicBezTo>
                    <a:pt x="220" y="7"/>
                    <a:pt x="220" y="19"/>
                    <a:pt x="220" y="0"/>
                  </a:cubicBezTo>
                  <a:cubicBezTo>
                    <a:pt x="220" y="0"/>
                    <a:pt x="215" y="0"/>
                    <a:pt x="210" y="0"/>
                  </a:cubicBezTo>
                  <a:cubicBezTo>
                    <a:pt x="210" y="23"/>
                    <a:pt x="210" y="8"/>
                    <a:pt x="210" y="30"/>
                  </a:cubicBezTo>
                  <a:cubicBezTo>
                    <a:pt x="184" y="30"/>
                    <a:pt x="210" y="30"/>
                    <a:pt x="180" y="30"/>
                  </a:cubicBezTo>
                  <a:cubicBezTo>
                    <a:pt x="140" y="12"/>
                    <a:pt x="80" y="12"/>
                    <a:pt x="40" y="30"/>
                  </a:cubicBezTo>
                  <a:cubicBezTo>
                    <a:pt x="25" y="30"/>
                    <a:pt x="10" y="30"/>
                    <a:pt x="10" y="30"/>
                  </a:cubicBezTo>
                  <a:lnTo>
                    <a:pt x="10" y="0"/>
                  </a:lnTo>
                  <a:cubicBezTo>
                    <a:pt x="1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16280" y="8408880"/>
              <a:ext cx="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68640" y="85539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5720" y="85539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4280" y="8553960"/>
              <a:ext cx="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22840" y="8985960"/>
              <a:ext cx="144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37000" y="8325000"/>
              <a:ext cx="865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평면부 두께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82840" y="8193240"/>
              <a:ext cx="86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곡면부 두께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21000" y="8337600"/>
              <a:ext cx="23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24280" y="8325000"/>
              <a:ext cx="236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07:46:21Z</dcterms:created>
  <dc:creator>TAEBONG</dc:creator>
  <dc:description/>
  <dc:language>en-US</dc:language>
  <cp:lastModifiedBy>Administrator</cp:lastModifiedBy>
  <dcterms:modified xsi:type="dcterms:W3CDTF">2004-09-24T06:00:08Z</dcterms:modified>
  <cp:revision>61</cp:revision>
  <dc:subject/>
  <dc:title>슬라이드 1</dc:title>
</cp:coreProperties>
</file>